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37C-0204-4F6A-ADCC-F6748035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6AD-D8EA-44A0-B148-DFBD43BC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D49-0CC1-47C7-82AD-A5CB1BF2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C7A-6370-416E-B80A-53F32480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3735-5DB9-449A-ABF6-C3B7777D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C733-8DE3-46DB-859B-9F912C52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4E21-6D2A-4368-BB48-7FE1615B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0A3C-45D6-4A40-8F37-497BAE16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92D9-DBE2-4B26-B825-270004A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1CC5-312D-4C82-90CE-29335C91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8A87-E668-42C1-8B2B-FAA4AF74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53D-D2CC-49F2-866A-B110BA2F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8628-68A5-48B5-B298-A281ABCA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63B6-98C6-499C-BEE9-A18EB75B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2064-DF36-48AC-8351-03E8E113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C86E-72AD-4549-A005-B0AB330C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A75D-9ED9-4F17-84CC-54645D45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61FE8-AC8B-4C1D-A807-B6E230ED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E2C24-A903-437D-AF21-D1976D95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46902-768B-4D8A-995A-1CD3F459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41AAD-EAD0-439B-9336-366E5D20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56FAC-918E-4684-9425-6CC6B80A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E4B-9950-4597-A176-F33EA4CB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E046C-C6DE-45CF-AE31-8B3D07F1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4F009-321A-4A1A-93A8-7BF73FD7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1FC16-2575-4FB8-921E-2128B32C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EE58D-E98C-4CE4-BA3A-7D4C6413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4DB4E-7569-4BBA-BA20-01BD6F0B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DF6A7-9EEF-43E7-8CF5-A6B35654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3A7B9-9E8A-49A3-AC28-6B4FD615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5BB22-15CB-4167-AE0F-6B8DB679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5824C-8F47-4456-93F1-B7587B6F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A9C2B-E062-4723-9C04-7B771FD9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3D2-E5BD-45C1-92B5-38773B0E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10E84-0788-4370-B518-82EEC31C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3A1DC-7CEC-461C-BEC1-579E883C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6B3A28-848D-4A0C-B6C6-594F5086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01BCF-B578-4409-B8F2-53DAC452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DD215-732A-46C0-A8B0-87F20C9E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E5D04-2994-425F-B5B1-F3ACC633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E64FB-791B-4C73-865E-61BF2837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F97B0-B276-4542-8B12-734C12EA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C2735-CED2-4CDD-9CFA-30DB0EF7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78C6D-33F8-4243-BA0F-83055B75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79D-CA3D-4E7A-B434-3CCF874F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49D87-D3DB-4514-AB3C-4E71FFBB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2E19B-F541-45B4-87F6-750FE805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A40B3-A229-45FB-89E0-A2E94BD5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7EC25-3A3A-4819-B088-289DBE3B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D6762-2CAB-4BFE-ADFE-EBF83707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EB482-312A-49E2-877E-D3E13BDC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58F24-6C00-4421-9322-B52A44F3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1E7C3-0A85-4DC3-A0CA-78DDB5A8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4C7F3-7A2A-4B62-9DA6-F1FC7A69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232F2-2A96-4E87-8117-C467B900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157-008B-4E03-8BAF-C6D711DF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72242-2726-4508-8234-10FD57D5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B1D62-8457-4E44-8BE2-8ECB03F8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FE5BC-00EA-467A-893E-07ABDE9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E584C-6C0C-481D-A553-421563DF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393E3-29F5-4652-A2DC-D6579ECF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ED8D8-01C7-48AC-92F5-2C2DF5CD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DC479-1EF3-4F0E-9EB4-4633FFDB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534B2-05A8-444C-ACAF-99451BC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61100-131A-406F-B660-8747D602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7162D-8A2E-4898-8E0D-9B74B0D8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6DC-6244-458F-B9AB-607F91AB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074EB-28AC-4191-9C32-A7304386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D8102-74DB-4740-A345-3E64DFC0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3A60C-76BF-4747-ABD3-FEE1C701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DF492-F9B3-4ABA-B61A-F29BB899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EC820-6E03-4055-B256-69A50907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1CC15D-C69C-47BA-853C-80543673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761FA-1E1A-4886-A956-D74514A6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A8F12-2360-4402-A135-0CE8C076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69277-DB2C-4013-846E-24929846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5C592-E679-4772-B58E-231DD517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153-1BFF-4B46-8188-E2564486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A9402-FC07-4C05-BBE1-539FB15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2140B-544E-4A42-8916-EE938AC4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40311F-CCDC-49ED-9283-F0D64653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6ACA0-5330-490F-9D41-F80CC742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B0438-BB38-4729-BA1B-C8DCF151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E24D6-02A5-4015-A903-9DEA4C17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7D1F9-0436-45E6-8C1F-BFECC1F4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94BD2-06EA-4B97-882F-4C229447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5D0B5-12CC-4FE9-AEBA-B1FB392E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1D160-B0EB-45BE-9624-8FBC582A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81A-C248-4231-965E-6712D6A9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F9061-D4DF-4B4F-ABC1-F54536CC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3E075-7A6F-46E6-8897-FBCAE9D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0DE22-296C-4B1A-9C90-C7A6D344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43821-4BA3-474A-9D9C-C042E1F7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BEF5A-3BB2-4CD7-AD75-AC07DFC5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65113-56FE-4CAC-BD4A-47711B27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DA54F-9B32-4EEF-8255-B0C0CDC1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3A0B-4D33-482F-8B43-6001D4C983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5D6-4905-42C1-8C2C-1D573D569C9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1681-0E5D-499B-B503-229ED4ACDA9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3681-B204-4D49-8B20-F7B95BF701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5DC1-7D87-4AB1-AEF5-6E168CB89F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5577-C8B1-4FEA-BD64-6A55370DDC9F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3880-40F4-4935-BB19-EA81E9BE2F4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1A2B-2795-4435-9909-42E80D0307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THE COLLEGE ESSA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howing Excellenc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ing Active Vo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1: The lessons that prepared me for college were taught to me by my mo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2: My mother taught me lessons that will prepare me for colle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ing Active Voice (cont.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void the passive vo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st for passive vo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” verb + past tense action ver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rrange the sentence to omit the “be” ver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will make your writing more concise and show more a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on’t Thesaurusiz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1: As a neophyte in music, I attended myriad lesso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2: As a young musician, I took many lesso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ch passage works better? Wh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your natural langu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few last thoughts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de effective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void ending with “In conclusion…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you can, tie your essay up with the beginning sto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ive your draft to oth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k students, parents, teachers to examine your writ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k for input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vise, revise, rev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writing should be flawles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very sentence should be meticulously plac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960" indent="-205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othing is ever there by chance!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asic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essay tells a story about the applica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essay never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tell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reader direct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stead, you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show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rough concrete experi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tting it up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pture interest within the first two sent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detail and concrete experi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 conc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y attention to transition and sentence vari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active voice verb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n’t thesaurusize your ess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lude effective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ive your draft to oth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vise, revise, rev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pturing Intere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ample 1: I volunteer as a Big Brother to a little boy. He lost his parents in a car accident a few months ago. From this experience, I hoped to help him cope with his loss and open up his personality by spending time with him after school on certain day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ample 2: While the other children played outside, eleven-year old Danny’s sad eyes focused on the white wall in front of him. He sat alone in silence – a silence that had imprisoned him since his mother and father died in a tragic accident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pturing Interest (cont.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ch passage works better? Wh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ps to follow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gin in the middle of the sto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ook the reader – a slight twist is not ba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lots of detai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eneral topics to avoid due to overus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vor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ission Trip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achers / Coach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Use Detail and Concrete Experienc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1: I developed a new compassion for the disabled. (tel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2: The next time that Mrs. Cooper asked me to help her across the street, I smiled and immediately took her arm. (experienc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ch passage works better? Wh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gain, show the reader who you are through examp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e Conc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1: After Mike left, his loss hit me like a ton of bricks, out of which, when I was finally able to crawl, I had to come to terms with the difficult fact that best friends may come along only once in a lifetime, and it was unlikely I would find such a close friendship again since lightning doesn’t strike twi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2: When Mike left, I lost the best friend I ever had, and I lost him forev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e Concise (cont.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ch passage works better? Wh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int out any clichés within either passa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n’t be wordy. When you start to string together a lot of little words (such as prepositional phrases), the writing becomes weak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nsitions and Sentence Varie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1: I started playing piano when I was eight years old. I worked hard to learn difficult pieces. I began to love musi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2: I started playing the piano at the age of eight. As I learned to play more difficult pieces, my appreciation for music deepen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ch passage works better? Wh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int out any flaws in either passa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0:38:31Z</dcterms:created>
  <dc:creator>Administrator</dc:creator>
  <dc:description/>
  <dc:language>en-US</dc:language>
  <cp:lastModifiedBy>Administrator</cp:lastModifiedBy>
  <dcterms:modified xsi:type="dcterms:W3CDTF">2011-08-29T01:01:58Z</dcterms:modified>
  <cp:revision>5</cp:revision>
  <dc:subject/>
  <dc:title>The College ESSAY</dc:title>
</cp:coreProperties>
</file>